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8E59-D8FF-4AD7-A38A-795CC9E52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B5F8-9939-4DC8-BD8D-71B5D53320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nglish Teacher to Learning Coach: Learner Autonomy and Empower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y do we need millions of educators to rewrite or create material, curriculum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y do we need this In the age of you tube and MIT open coursew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great stuff is already out t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re’s Digital oxford universit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e need that efficiency in the education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C73C-BA12-4356-A80F-8DECCEE526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chnical: how to construct sentences; gramma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actical; how to write a paragraph for an e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ultural: who is the audience; cultural implications and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ritical: what the message is; clarity of thought; cohesiveness;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acher as a personal learning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hallenging the belief system of teachers and creating a culture of reflective work will, in MuHammads’s (2009) view, help schools develop as a place where all students have the ability to succeed.  This cultural change will surely allow for a learning environment described by the notion of a personal learning manager.  Of course,  we then have to take a long look at what or where a “school” is and position that place or that space for this new teaching 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173A-D070-4665-AF3A-999CF5C417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s need to develop the skills needed for the 21</a:t>
            </a:r>
            <a:r>
              <a:rPr b="0" lang="en-CA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centur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ive the exampl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 live in cana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’m living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xplain the context and the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EAFA-6763-4FA3-91A5-EDBF5B7CE5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ack Uldrich-global futurist and Chief unlearning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that people cannot understand the future but unwillingness to let go of present-e.g. “LIN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ne of the most critical skills of the future is not “lifelong learning” but unlear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o attain knowledge, add things everyday  by chinese philosopher“lao tsu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o attain wisdom, subtract things every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efinition of unlearning; To see the world not as you see it but as others d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.g. E and backward “E” how “E” is seen by others i.e.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so much what we know but what we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s humans, we’re pattern seeking animals even when patterns don’t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ack says that If you want to unlearn, create a list of anti library ie. Books that you never read but shoul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B038-4A3A-4A19-A961-32B89C0993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efinition of unlearning; To see the world not as you see it but as others d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.g. E and backward “E” how “E” is seen by others i.e.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what YOU should teach but what your LEARNERS want to learn-go back to needs assessment example: assessment from whose perspect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so much what we know but what we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s humans, we’re pattern seeking animals even when patterns don’t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B0D3-E8AD-4EC1-B94B-03AF163B80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what you have learned-i.e. What you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the content we create and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6AE2-863E-43A5-A05C-CA1AADE2B9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aching is still relevant; the question 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does teaching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6819-7CE6-4FF8-80C6-35E12B84A5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what we don’t know; that’s what unlearning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tent we 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xample of counting white basketball and 500 pound guerilla in the room that no one saw as everyone is cou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asketball players: ice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guerilla: undernea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so, example of the penny increasing exponentially; value of compound knowledge, mon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ikepedia using collaboration of 1,000,000 people taking 100,000,000 hrs to bu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E029-970B-4C72-9EE4-D69275047C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90F-18AB-4857-AD46-89C8694D3D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ject-ba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hort stories, autobiographies, class projects, creating web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SL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s research about funding esl &amp; linc in ontario; immigration patterns, declining enrolment (hence budget cu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ong dist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ail correspo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er to correct email messages if anx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t r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-cultural and discourse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r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fter struggling to replace the once adrenaline filled void in his life, Miguel, the matador, turned to teaching at his local language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F106-75C4-41E5-97CC-8D1914A0C1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r this? Or other way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BBB6-2D69-428A-9221-2E54C11751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3C3F-DB54-42A9-9C5C-11144AD55A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761C-1E78-4108-B852-1B4A03978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FD0C-A853-4A6C-A99F-131BE8EE3E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are the people </a:t>
            </a:r>
            <a:r>
              <a:rPr b="1" lang="en-CA" sz="1200" spc="-1" strike="noStrike">
                <a:solidFill>
                  <a:srgbClr val="ff0000"/>
                </a:solidFill>
                <a:latin typeface="Times New Roman"/>
              </a:rPr>
              <a:t>formerly known as the 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–audience-know more than i do-massive amount of info w the 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should be up here in f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does this remind us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ass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 system built for industrial age where we stamp all students with the righ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 the knowledge flows from lec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f you don’t feed it back, you are wro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ne size fits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veryone must ask the same question, be provided with same answ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teacher becomes the speaker of the decid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ust like the news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e should question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nable students to questio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1582-3BF1-47E6-9F8D-C80859654F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asks shift from creating and controlling content and managing scarcity to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curating people and content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nd creating an abundance of students and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A world where everyone learns and everyone te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nk of education as process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not as a product w an expiry date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ith the end product being a certificate or dipl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should schools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matters is your ability and your desire and th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chools become the means to help ss create what they want to cr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6D1D-C2BF-48A3-AD37-968BCA4EEC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DD9-4FBF-40AD-A880-135FB065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8C7-A89A-4A47-855B-F3C5F401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9AE-A942-4566-95E0-32945A06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EE0-2FC3-4EFF-8531-C346AD2D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195D-93C3-4684-B59E-BF148FD1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8ECC-B5A8-43E7-B810-7BDF24A6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FE44-49DC-4C25-95F9-1535E9ED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1B84-9DD7-4647-9CEB-795AB5F6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B906-C445-4227-943E-235B2B96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DC3B-00C3-4443-ACC9-ED6415D5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62C9-6709-435A-970E-3099CFB4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FEE-8817-4398-9622-74D17DDD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D549-52FF-41AA-9B15-13B4E8C4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80B9-11A1-4EA8-8C85-A1CE7B3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4F61-233D-4EBB-B5E0-F2294E9C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3095-F631-4292-99E1-6A7BC1BA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B79A-D72C-44D1-BD78-413DBBD7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DBF-B1A8-4FA2-88BA-9A0471BB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F9E-C396-465C-B41A-A872173C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9D3-A2DD-4258-BFCB-3FC638F2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1C8-25D3-41B5-84F4-14C6B42F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AEA-B487-4AC3-A85F-98F31E0C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0CC-90E0-4E90-A013-C9EB5EDA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4F3-63A6-4E45-B599-DCBE91AD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E38C-AFE6-49D8-9BC1-B4C971512D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589D-7FD5-47D0-A70A-2C1D30FDFB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The ever changing role of teachers: </a:t>
            </a:r>
            <a:r>
              <a:rPr b="0" lang="en-CA" sz="4800" spc="-1" strike="noStrike">
                <a:solidFill>
                  <a:srgbClr val="ffff00"/>
                </a:solidFill>
                <a:latin typeface="Arial"/>
              </a:rPr>
              <a:t>Is teaching still relevant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74320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cess Employment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on Raja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aron.rajabi@tcdsb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Arial"/>
              </a:rPr>
              <a:t>Educators should become more the curators than creators.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Rules of Engagement</a:t>
            </a:r>
            <a:br>
              <a:rPr sz="4400"/>
            </a:b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O’Rurke :200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8592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ch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ul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ffffff"/>
                </a:solidFill>
                <a:latin typeface="Arial"/>
              </a:rPr>
              <a:t>Higher-order goals demand what some analysts have called “meaningful learning” (Good &amp; Brophy, 1986) that is, learning that enables critical thinking, flexible problem solving, and transfer of skills and use of knowledge in new situations. (p.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E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A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ffffff"/>
                </a:solidFill>
                <a:latin typeface="Arial"/>
              </a:rPr>
              <a:t>CU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4" descr=""/>
          <p:cNvPicPr/>
          <p:nvPr/>
        </p:nvPicPr>
        <p:blipFill>
          <a:blip r:embed="rId2"/>
          <a:stretch/>
        </p:blipFill>
        <p:spPr>
          <a:xfrm>
            <a:off x="3670200" y="2755800"/>
            <a:ext cx="179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o see the world not as you see it but as others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Rectangle 4" descr=""/>
          <p:cNvPicPr/>
          <p:nvPr/>
        </p:nvPicPr>
        <p:blipFill>
          <a:blip r:embed="rId1"/>
          <a:stretch/>
        </p:blipFill>
        <p:spPr>
          <a:xfrm>
            <a:off x="2743200" y="-1530360"/>
            <a:ext cx="6072120" cy="8364600"/>
          </a:xfrm>
          <a:prstGeom prst="rect">
            <a:avLst/>
          </a:prstGeom>
          <a:ln w="0">
            <a:noFill/>
          </a:ln>
        </p:spPr>
      </p:pic>
      <p:pic>
        <p:nvPicPr>
          <p:cNvPr id="144" name="Rectangle 5" descr=""/>
          <p:cNvPicPr/>
          <p:nvPr/>
        </p:nvPicPr>
        <p:blipFill>
          <a:blip r:embed="rId2"/>
          <a:stretch/>
        </p:blipFill>
        <p:spPr>
          <a:xfrm>
            <a:off x="0" y="907920"/>
            <a:ext cx="6072120" cy="83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t so much what we know but what we don’t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s humans, we’re pattern seeking animals even when patterns don’t ex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iceberg 1.JPG"/>
          <p:cNvPicPr/>
          <p:nvPr/>
        </p:nvPicPr>
        <p:blipFill>
          <a:blip r:embed="rId1"/>
          <a:stretch/>
        </p:blipFill>
        <p:spPr>
          <a:xfrm>
            <a:off x="4214880" y="1428840"/>
            <a:ext cx="3943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Content Placeholder 3" descr="9801620-illustrated-teacher-holding-a-stick-with-a-scroll-in-front.jpg"/>
          <p:cNvPicPr/>
          <p:nvPr/>
        </p:nvPicPr>
        <p:blipFill>
          <a:blip r:embed="rId1"/>
          <a:stretch/>
        </p:blipFill>
        <p:spPr>
          <a:xfrm>
            <a:off x="4786200" y="2214720"/>
            <a:ext cx="3011760" cy="2857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rajabis\Local Settings\Temporary Internet Files\Content.IE5\NRY2X67M\MM900046566[1].gif"/>
          <p:cNvPicPr/>
          <p:nvPr/>
        </p:nvPicPr>
        <p:blipFill>
          <a:blip r:embed="rId2"/>
          <a:stretch/>
        </p:blipFill>
        <p:spPr>
          <a:xfrm>
            <a:off x="1000080" y="2286000"/>
            <a:ext cx="30006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11187270-iceberg-ship.jpg"/>
          <p:cNvPicPr/>
          <p:nvPr/>
        </p:nvPicPr>
        <p:blipFill>
          <a:blip r:embed="rId1"/>
          <a:stretch/>
        </p:blipFill>
        <p:spPr>
          <a:xfrm>
            <a:off x="4071960" y="1285920"/>
            <a:ext cx="4000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H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roject-based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jects include many individual tasks; the umbrella of the project allows opportunities to critique and transform practice in ways that individual tasks do n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Long-distance exchange pro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rs debate and discuss issues related to culture, identity, education,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teacher is one who makes himself progressively unnecessa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Thomas Carruthers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good teacher is like a candle - it consumes itself to light the way for others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Mustafa Kemal Atatü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ranslated from Turkish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mediocre teacher tells.  The good teacher explains.  The superior teacher demonstrates.  The great teacher inspires. 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William Arthur War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teacher high res 2.jpg"/>
          <p:cNvPicPr/>
          <p:nvPr/>
        </p:nvPicPr>
        <p:blipFill>
          <a:blip r:embed="rId1"/>
          <a:stretch/>
        </p:blipFill>
        <p:spPr>
          <a:xfrm>
            <a:off x="571680" y="500040"/>
            <a:ext cx="4929120" cy="386244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teacher w smart board.jpg"/>
          <p:cNvPicPr/>
          <p:nvPr/>
        </p:nvPicPr>
        <p:blipFill>
          <a:blip r:embed="rId1"/>
          <a:stretch/>
        </p:blipFill>
        <p:spPr>
          <a:xfrm>
            <a:off x="0" y="0"/>
            <a:ext cx="93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-285840" y="0"/>
            <a:ext cx="98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Demands on teachers.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achievements for all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levels of accountability by f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ew or renewed curricu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udgetary pres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levels of diversity in the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assive amount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Diagram 3" descr=""/>
          <p:cNvPicPr/>
          <p:nvPr/>
        </p:nvPicPr>
        <p:blipFill>
          <a:blip r:embed="rId1"/>
          <a:stretch/>
        </p:blipFill>
        <p:spPr>
          <a:xfrm>
            <a:off x="7997760" y="5778360"/>
            <a:ext cx="652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re we preparing our learners for the google age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23:34:28Z</dcterms:created>
  <dc:creator>Sharon Rajabi</dc:creator>
  <dc:description/>
  <dc:language>en-US</dc:language>
  <cp:lastModifiedBy>Consultant</cp:lastModifiedBy>
  <dcterms:modified xsi:type="dcterms:W3CDTF">2013-02-21T17:53:35Z</dcterms:modified>
  <cp:revision>263</cp:revision>
  <dc:subject/>
  <dc:title>Rethinking literacy in electronic age: Am I teaching what learners need?</dc:title>
</cp:coreProperties>
</file>